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jpeg" ContentType="image/jpeg"/>
  <Override PartName="/ppt/media/image5.wmf" ContentType="image/x-wmf"/>
  <Override PartName="/ppt/media/image6.png" ContentType="image/png"/>
  <Override PartName="/ppt/media/image7.wmf" ContentType="image/x-wmf"/>
  <Override PartName="/ppt/media/image8.wmf" ContentType="image/x-wmf"/>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58BDB-39A1-482A-9E1B-92DC58DDD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4C6FE-7064-42BD-AF66-04F8ADAE8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70211-86A5-4746-B8CF-101E4301B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46A54-6DEB-46C0-BFB8-81F5D5458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FC316-F0E7-4259-A73B-CFA4F26AF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359CD-3803-40BA-B8CF-5265BFFC6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66831-AC36-4BE2-A28A-0208AC2AC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18AA2-ECFF-4461-A865-5198FEC73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6EA34-B18E-4912-BCE6-2E34CA15C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84045-3353-4A81-A3E6-B52DE6301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CBF92-9208-40BE-881B-837E9D1DE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51FE4-500F-4279-9853-1CE8B03BF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96D5-AF99-45FE-93DE-5FEDD807C5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Which competences for teaching literacy?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37000"/>
            <a:ext cx="6400800" cy="1201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Gerry Shiel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gerry.shiel@erc.i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2ABBF49-1E34-40A6-BF2E-CE8336811A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t are teachers important?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on teacher effectiveness has concluded that .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achers are the single most important factor that determines students’ level of achievement (e.g., Berliner, 1994; Knapp, 199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highly effective teachers share similar characteristics (International Reading Association, 2000; Ruddell, 199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International studies such as PISA and PIRLS won’t answer this question.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C311F57-905C-421D-95AC-C54F8983D4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In search of competenci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rocess-product studies of the 1970s and early 1980s. . . Focused on behaviours of effective teachers . . . Some implications for teaching reading. .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1990s . . . Shift to study of cognitive processes of more effective teachers . . .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More recently. . . Studies of teacher learning  (response to professional development). . .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arallel with this.. . . Effective schools in literacy (“Schools where literacy thrive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024D3BE-F911-4674-84F7-3314294455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cess-product Studies of 1960s and 1970s in the U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teachers maintained an academic focus, kept more pupils on task, and provided direct i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direct instruction included making learning goals clear, asking students questions to monitor understanding of content or skills covered, and providing feedback to students about their progres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83EAF16-FAA5-4852-939E-86C3B87343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gnitive Processes of Effective Teachers </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effective teachers use modeling and explanation to teach students strategies for decoding words and understanding texts (Roehler &amp; Duffy, 198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teachers stressed higher level thinking skills more than lower level skills (Knapp, 199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18A309C-6162-4DF5-8594-0B16DEE9AA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ooking Inside Classrooms – Taylor et al. 2002</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ross all grades, whole-group instruction was coded more often than small-group instru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level activities were infrequently observed in grade 3 and comprehension skill or strategy work was seldom observed in grades 1–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ross all grades a relatively small amount of higher level questioning or writing related to stories read was observ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ing and recitation were major interaction styles of teachers in all grades; coaching was seldom observ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4E2811B-D2A8-4A40-B472-7FC0722C2E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3360"/>
            <a:ext cx="8229600" cy="10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ociations between observed practices and reading achievement - Taylor et al. 2002</a:t>
            </a:r>
            <a:endParaRPr b="0" lang="en-US" sz="3200" spc="-1" strike="noStrike">
              <a:solidFill>
                <a:srgbClr val="000000"/>
              </a:solidFill>
              <a:latin typeface="Arial"/>
            </a:endParaRPr>
          </a:p>
        </p:txBody>
      </p:sp>
      <p:sp>
        <p:nvSpPr>
          <p:cNvPr id="74"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kindergarten,  time spent on word-level activities  (positively related) and telling (negatively related) had significant relationships with regard to spring letter-name scores (after accounting for fall sco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rade 1, the incidence of students coded as actively responding was positively related to spring fluency scores, after accounting for fall scor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31AC0CA-89AE-40E1-A441-1F7710B98D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grades 2–3, </a:t>
            </a:r>
            <a:r>
              <a:rPr b="0" lang="en-US" sz="3200" spc="-1" strike="noStrike" u="sng">
                <a:solidFill>
                  <a:srgbClr val="000000"/>
                </a:solidFill>
                <a:uFillTx/>
                <a:latin typeface="Arial"/>
              </a:rPr>
              <a:t>telling</a:t>
            </a:r>
            <a:r>
              <a:rPr b="0" lang="en-US" sz="3200" spc="-1" strike="noStrike">
                <a:solidFill>
                  <a:srgbClr val="000000"/>
                </a:solidFill>
                <a:latin typeface="Arial"/>
              </a:rPr>
              <a:t> had a significant negative relationship with spring fluency scores (after accounting for fall sco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grades 4-6, at class level, time spent on higher level questions had a significant positive relationship and telling had a significant negative relationship on spring comprehension scores (after accounting for fall scores).</a:t>
            </a:r>
            <a:endParaRPr b="0" lang="en-US" sz="3200" spc="-1" strike="noStrike">
              <a:solidFill>
                <a:srgbClr val="000000"/>
              </a:solidFill>
              <a:latin typeface="Arial"/>
            </a:endParaRPr>
          </a:p>
        </p:txBody>
      </p:sp>
      <p:sp>
        <p:nvSpPr>
          <p:cNvPr id="77" name=""/>
          <p:cNvSpPr/>
          <p:nvPr/>
        </p:nvSpPr>
        <p:spPr>
          <a:xfrm>
            <a:off x="673200" y="490680"/>
            <a:ext cx="8229600" cy="9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ociations between observed practices and reading achievement - Taylor et al. 2002</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F320620-6DDF-4404-85E3-794E2FACF2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aylor et al., (2002) – Conclusion </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general, a shift in certain teaching practices, such as higher level questioning, style of interacting, and encouraging active pupil involvement, may be warranted.</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A3EE33E0-353C-416F-A91C-6B7801626C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amples of Effective Behaviours in Kindergarten</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aching small groups (of 6 pupi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phasis on word work (making words with plastic letters, practicing sight words, generating rhyming words, writing sounds heard in journ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 involvement of students (instead of tell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equent choral reading instead of turn-ta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aching (hints and clues) rather than telling, when students struggled with a wor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4131F43-420B-447E-B1F2-7C7F0F468A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amples of Less-effective Teaching Activates in First Grade</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cher generates a morning message for the class rather than asking the students to co-construct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cher sounds out a word herself and then has the children repeat it, instead of coaching them to sound it ou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children are writing in their journal, the teacher  consistently tells them how to spell a word instead of determining which parts they could spell themselv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D5F9891-1BD2-42EB-AEDF-89DEB6663A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3943440"/>
            <a:ext cx="8286840" cy="2489400"/>
          </a:xfrm>
          <a:prstGeom prst="rect">
            <a:avLst/>
          </a:prstGeom>
          <a:noFill/>
          <a:ln w="0">
            <a:noFill/>
          </a:ln>
        </p:spPr>
        <p:style>
          <a:lnRef idx="0"/>
          <a:fillRef idx="0"/>
          <a:effectRef idx="0"/>
          <a:fontRef idx="minor"/>
        </p:style>
        <p:txBody>
          <a:bodyPr lIns="36000" rIns="36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Tahoma"/>
              </a:rPr>
              <a:t>“</a:t>
            </a:r>
            <a:r>
              <a:rPr b="0" i="1" lang="en-IE" sz="3600" spc="-1" strike="noStrike">
                <a:solidFill>
                  <a:srgbClr val="000000"/>
                </a:solidFill>
                <a:latin typeface="Tahoma"/>
              </a:rPr>
              <a:t>I find television to be very educating.</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600" spc="-1" strike="noStrike">
                <a:solidFill>
                  <a:srgbClr val="000000"/>
                </a:solidFill>
                <a:latin typeface="Tahoma"/>
              </a:rPr>
              <a:t> </a:t>
            </a:r>
            <a:r>
              <a:rPr b="0" i="1" lang="en-IE" sz="3600" spc="-1" strike="noStrike">
                <a:solidFill>
                  <a:srgbClr val="000000"/>
                </a:solidFill>
                <a:latin typeface="Tahoma"/>
              </a:rPr>
              <a:t>Every time somebody turns on the set, I go in the other room and read a book</a:t>
            </a:r>
            <a:r>
              <a:rPr b="0" lang="en-IE" sz="3600" spc="-1" strike="noStrike">
                <a:solidFill>
                  <a:srgbClr val="000000"/>
                </a:solidFill>
                <a:latin typeface="Tahoma"/>
              </a:rPr>
              <a:t>”</a:t>
            </a:r>
            <a:endParaRPr b="0" lang="en-US" sz="36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Groucho Marx</a:t>
            </a:r>
            <a:endParaRPr b="0" lang="en-US" sz="2000" spc="-1" strike="noStrike">
              <a:solidFill>
                <a:srgbClr val="000000"/>
              </a:solidFill>
              <a:latin typeface="Arial"/>
            </a:endParaRPr>
          </a:p>
        </p:txBody>
      </p:sp>
      <p:pic>
        <p:nvPicPr>
          <p:cNvPr id="44" name="" descr=""/>
          <p:cNvPicPr/>
          <p:nvPr/>
        </p:nvPicPr>
        <p:blipFill>
          <a:blip r:embed="rId1"/>
          <a:stretch/>
        </p:blipFill>
        <p:spPr>
          <a:xfrm>
            <a:off x="382680" y="438120"/>
            <a:ext cx="2592360" cy="3298680"/>
          </a:xfrm>
          <a:prstGeom prst="rect">
            <a:avLst/>
          </a:prstGeom>
          <a:ln w="0">
            <a:noFill/>
          </a:ln>
        </p:spPr>
      </p:pic>
      <p:sp>
        <p:nvSpPr>
          <p:cNvPr id="2" name="PlaceHolder 1"/>
          <p:cNvSpPr>
            <a:spLocks noGrp="1"/>
          </p:cNvSpPr>
          <p:nvPr>
            <p:ph type="sldNum" idx="3"/>
          </p:nvPr>
        </p:nvSpPr>
        <p:spPr/>
        <p:txBody>
          <a:bodyPr/>
          <a:p>
            <a:fld id="{33142FDD-8CF4-4251-B926-FD33BFB0C1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amples of Effective Teaching in Grades 4-6 </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roducing a book title, and asking students to write a prediction in their journals before continu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ing additional help to a small group of struggling readers while the rest of the class was engaged in silent rea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gaging students in preparing and making small-group presentations about a story (covering questions and vocabular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essing students’ growth towards independence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A485CFA-1A91-4D32-A862-497F8C1DB2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1904760"/>
            <a:ext cx="82296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What generalisations can we make about teacher competencies? </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C01FA35-08E4-49BF-9E08-D121ADC955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UK Studies of Effective Teachers</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ray, Medwell, Poulson &amp; Fox (2001/0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opping and Ferguson (200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eachers nominated by LEAs, above average (or high) scores on standardised tests of reading litera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urveys and structured observations (usually videotap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ray et al. 26 effective and 10 typical teachers observed twice. 300 teachers survey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opping – 5 teachers observed and inteview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AE2CE72-AAE3-4108-8F80-3EFB2B9B55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ther Studies of Effective Teachers </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essley, Ranking &amp; Yokoi, 1996</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harton-McDonald, Pressley et al. 1997/9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essley et al. (200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Knapp (1995) – Teaching for meaning in high-poverty schoo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IERA (Centre for Improvement in Early Reading Achievement) / Taylor et al. 1999, 2002, 2003</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5F208D3-1752-48D9-A9A0-DC296C7D68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ummary of Outcomes of Effective Teaching of Reading Studies</a:t>
            </a:r>
            <a:r>
              <a:rPr b="0" lang="en-IE" sz="4400" spc="-1" strike="noStrike">
                <a:solidFill>
                  <a:srgbClr val="000000"/>
                </a:solidFill>
                <a:latin typeface="Arial"/>
              </a:rPr>
              <a:t>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000000"/>
                </a:solidFill>
                <a:latin typeface="Arial"/>
              </a:rPr>
              <a:t>Providing opportunities to learn</a:t>
            </a:r>
            <a:r>
              <a:rPr b="0" lang="en-IE" sz="3200" spc="-1" strike="noStrike">
                <a:solidFill>
                  <a:srgbClr val="000000"/>
                </a:solidFill>
                <a:latin typeface="Arial"/>
              </a:rPr>
              <a:t> (e.g., Topping &amp; Ferguson – 1 hour and 20 mins per day; minimum 90 mins per 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000000"/>
                </a:solidFill>
                <a:latin typeface="Arial"/>
              </a:rPr>
              <a:t>Classroom environment and materials for reading</a:t>
            </a:r>
            <a:r>
              <a:rPr b="0" lang="en-IE" sz="3200" spc="-1" strike="noStrike">
                <a:solidFill>
                  <a:srgbClr val="000000"/>
                </a:solidFill>
                <a:latin typeface="Arial"/>
              </a:rPr>
              <a:t> (e.g., Pressley (1996) – classrooms were filled with a wide range of high-quality children’s litera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9923CEB-63ED-4688-8237-B97D7D7D37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Summary of Outcomes  </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000000"/>
                </a:solidFill>
                <a:latin typeface="Arial"/>
              </a:rPr>
              <a:t>A coherent, differentiated classroom programme</a:t>
            </a:r>
            <a:r>
              <a:rPr b="0" lang="en-IE" sz="2800" spc="-1" strike="noStrike">
                <a:solidFill>
                  <a:srgbClr val="000000"/>
                </a:solidFill>
                <a:latin typeface="Arial"/>
              </a:rPr>
              <a:t> (e.g., Taylor et al. 2003 – flexible and dynamic grouping). . . But grouping not always necessary (e.g., Topping &amp; Ferguson – greater range of effective behaviours occurred during whole class shared reading lessons than in small group settings, where there tended to be more telling, recitation, closed questioning and transmission of inform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80A0E6A-70E2-40A1-8699-4B30F8C6D5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Summary of Outcomes  </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000000"/>
                </a:solidFill>
                <a:latin typeface="Arial"/>
              </a:rPr>
              <a:t>A metacognitive approach to instruction</a:t>
            </a:r>
            <a:r>
              <a:rPr b="0" lang="en-IE" sz="2800" spc="-1" strike="noStrike">
                <a:solidFill>
                  <a:srgbClr val="000000"/>
                </a:solidFill>
                <a:latin typeface="Arial"/>
              </a:rPr>
              <a:t> (Pressley et al 2001 – fostering </a:t>
            </a:r>
            <a:r>
              <a:rPr b="0" lang="en-US" sz="2800" spc="-1" strike="noStrike">
                <a:solidFill>
                  <a:srgbClr val="000000"/>
                </a:solidFill>
                <a:latin typeface="Arial"/>
              </a:rPr>
              <a:t>self-regulation in students’ use of strategies)</a:t>
            </a:r>
            <a:r>
              <a:rPr b="0" lang="en-IE"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Following three years of intensive professional development, Taylor at al. (2003) noted that telling and recitation were still the dominant modes of instruction among teachers in their study, but even modest occurrences of modelling and coaching were associated with substantial growth in achievement, leading to the conclusion that </a:t>
            </a:r>
            <a:r>
              <a:rPr b="0" lang="en-IE" sz="2800" spc="-1" strike="noStrike" u="sng">
                <a:solidFill>
                  <a:srgbClr val="000000"/>
                </a:solidFill>
                <a:uFillTx/>
                <a:latin typeface="Arial"/>
              </a:rPr>
              <a:t>a little goes a long way</a:t>
            </a:r>
            <a:r>
              <a:rPr b="0" lang="en-IE"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6A0C660-25BF-40A6-9868-D821B55172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Summary of Outcomes  </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000000"/>
                </a:solidFill>
                <a:latin typeface="Arial"/>
              </a:rPr>
              <a:t>Skills teaching within a context</a:t>
            </a:r>
            <a:r>
              <a:rPr b="0" lang="en-IE" sz="2800" spc="-1" strike="noStrike">
                <a:solidFill>
                  <a:srgbClr val="000000"/>
                </a:solidFill>
                <a:latin typeface="Arial"/>
              </a:rPr>
              <a:t> . . . (e.g., Wray et al. reported that effective teachers used big books and shared texts as an entry point into teaching phonics and vocabulary, while less effective teachers introduced skills in isolation using flashcards and paper-and-pencil activ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e.g., Knapp et al. 1995 . . . Children in meaning-oriented classrooms acquired basic skills as well as children in skills-orientated classroom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D426506-E341-45F5-8032-8156BE5D9A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Summary of Outcome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000000"/>
                </a:solidFill>
                <a:latin typeface="Arial"/>
              </a:rPr>
              <a:t>Emphasis on formative assessment</a:t>
            </a:r>
            <a:r>
              <a:rPr b="0" lang="en-IE" sz="2800" spc="-1" strike="noStrike">
                <a:solidFill>
                  <a:srgbClr val="000000"/>
                </a:solidFill>
                <a:latin typeface="Arial"/>
              </a:rPr>
              <a:t>  (Wray et al., 2002 – exemplary teachers were more diagnostic in their assessment of children’s developing understan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000000"/>
                </a:solidFill>
                <a:latin typeface="Arial"/>
              </a:rPr>
              <a:t>Expert classroom management</a:t>
            </a:r>
            <a:r>
              <a:rPr b="0" lang="en-IE" sz="2800" spc="-1" strike="noStrike">
                <a:solidFill>
                  <a:srgbClr val="000000"/>
                </a:solidFill>
                <a:latin typeface="Arial"/>
              </a:rPr>
              <a:t> (Taylor et al. 2003 – in classrooms of effective teachers, 90% of students were observed to be on-task 90% of the time); (Pressley et al., 2001) – bad behaviour was stopped quickly and redirected in positive ways. Classrooms of effective teachers were characterised by high levels of engagemen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FDD8D17-CC7E-404C-ACB4-65A4C84580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aracteristics of Expert Teachers of Adolescent Literacy (Parris &amp; Block, 2007)</a:t>
            </a:r>
            <a:endParaRPr b="0" lang="en-US" sz="32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cy approaches used to teach: Teaching pedagogy</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of addressing diverse needs</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characteristics</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base</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nd quantity of literacy activities used</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 of professional development</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with students</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managem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0E227FB-EAF9-4631-9E75-645917B420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broad questions. . .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What</a:t>
            </a:r>
            <a:r>
              <a:rPr b="0" lang="en-GB" sz="2800" spc="-1" strike="noStrike">
                <a:solidFill>
                  <a:srgbClr val="000000"/>
                </a:solidFill>
                <a:latin typeface="Arial"/>
              </a:rPr>
              <a:t> should reading teachers teac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How</a:t>
            </a:r>
            <a:r>
              <a:rPr b="0" lang="en-GB" sz="2800" spc="-1" strike="noStrike">
                <a:solidFill>
                  <a:srgbClr val="000000"/>
                </a:solidFill>
                <a:latin typeface="Arial"/>
              </a:rPr>
              <a:t> should they teach i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What</a:t>
            </a:r>
            <a:r>
              <a:rPr b="0" lang="en-GB" sz="2800" spc="-1" strike="noStrike">
                <a:solidFill>
                  <a:srgbClr val="000000"/>
                </a:solidFill>
                <a:latin typeface="Arial"/>
              </a:rPr>
              <a:t> are the most important competencies for reading teach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Can</a:t>
            </a:r>
            <a:r>
              <a:rPr b="0" lang="en-GB" sz="2800" spc="-1" strike="noStrike">
                <a:solidFill>
                  <a:srgbClr val="000000"/>
                </a:solidFill>
                <a:latin typeface="Arial"/>
              </a:rPr>
              <a:t> professional development programmes in reading change teachers’ knowledge and belief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Can</a:t>
            </a:r>
            <a:r>
              <a:rPr b="0" lang="en-GB" sz="2800" spc="-1" strike="noStrike">
                <a:solidFill>
                  <a:srgbClr val="000000"/>
                </a:solidFill>
                <a:latin typeface="Arial"/>
              </a:rPr>
              <a:t> changes in teachers’ knowledge and beliefs change reading achievement sco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7BAD537-09EC-42DE-91D4-8924D273A5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Literacy approaches used to teach</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High pedagogic expect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courages independent learn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Integrates reading instruction with content area</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hibits and evokes emotion (humour, enthusiasm);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ontaneo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s critical thinking skil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s questions (rather than always tel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students in decision mak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CDB0EAE-7D22-4345-BB22-019492CA36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Addressing diverse student needs </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dicato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ises instru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t assessment and feedbac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le group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that attend to individual needs  within the context of group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EEBE931-2290-4123-96D0-88629CA78D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Personal Characteristics of Teachers</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dicators. .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s about all studen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es with pe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lent two-way communication skil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expectations of sel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ve of learning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3820C60-F647-43DB-AA06-97A0BB4DD5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Knowledge Base</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knowledge of the follo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 are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al stages of adolescen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instruction strate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reading development stag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ng appropriate strategies as need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074E971-EA2D-4F6C-895A-53853B835D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5. Quality and Quantity of Literacy Activities Used</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dicators . .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multiple forms of input systems activities (visuals, hands-on, technolog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multiple forms of expression (peer share, publis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book-sharing activities;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time to read and write independently;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group activit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815200C-6D14-43BD-99DD-4572320A74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5. Quality and Quantity of Literacy Activities Used</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s of specific activities. . . .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on activitie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projects, and competitions that interrelated content area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ffolding;</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lessons that teach a specific reading strategy;</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scussions as opposed to lecturing;</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ing instruction in how to read a variety of genre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ing through literature circles, fluid grouping, pair share;</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iting classmates to give constructive feedback to one another;</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ing students’ critical and analytical think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D75CFFD-2BD1-44BF-A734-B33B507DDD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6. Amount of Professional Development </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dicators. .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development (participates in professional associations, college cla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ys abreast of researc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s on own teaching to impro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ys abreast of current even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7D7981C-6632-46F8-9827-D11B8D50BC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7. Appropriate Relationships with Students</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dicators . . . .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rapport with stud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s personal attention to each stud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es that all students are valued and accept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al respect with stud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stworth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our importa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D2B1928-D38A-4923-8CF2-851F880CF8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8. Classroom Managemen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icators. . . .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llent learning management (ability to keep students focused on work, minimal discipline problem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llent resource management (classroom, ti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assroom management defined b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behavi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time on task, 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 of time and resources in genera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6696FFC-E980-4187-BADA-E15176E292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1447920"/>
            <a:ext cx="822960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ompetent teachers are not necessarily competent in all aspects of reading instruction. . </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B900381-5A6F-41B3-B2DA-0F8F39F44F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more questions. . . </a:t>
            </a: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Under what conditions</a:t>
            </a:r>
            <a:r>
              <a:rPr b="0" lang="en-GB" sz="3200" spc="-1" strike="noStrike">
                <a:solidFill>
                  <a:srgbClr val="000000"/>
                </a:solidFill>
                <a:latin typeface="Arial"/>
              </a:rPr>
              <a:t> can pedagogical knowledge influence teaching practic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What </a:t>
            </a:r>
            <a:r>
              <a:rPr b="0" lang="en-IE" sz="3200" spc="-1" strike="noStrike">
                <a:solidFill>
                  <a:srgbClr val="000000"/>
                </a:solidFill>
                <a:latin typeface="Arial"/>
              </a:rPr>
              <a:t>can</a:t>
            </a:r>
            <a:r>
              <a:rPr b="0" lang="en-GB" sz="3200" spc="-1" strike="noStrike">
                <a:solidFill>
                  <a:srgbClr val="000000"/>
                </a:solidFill>
                <a:latin typeface="Arial"/>
              </a:rPr>
              <a:t> policy documents such as IRA’s Standards for Reading Professionals tell us about teacher competenc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000000"/>
                </a:solidFill>
                <a:uFillTx/>
                <a:latin typeface="Arial"/>
              </a:rPr>
              <a:t>Are</a:t>
            </a:r>
            <a:r>
              <a:rPr b="0" lang="en-GB" sz="3200" spc="-1" strike="noStrike">
                <a:solidFill>
                  <a:srgbClr val="000000"/>
                </a:solidFill>
                <a:latin typeface="Arial"/>
              </a:rPr>
              <a:t> </a:t>
            </a:r>
            <a:r>
              <a:rPr b="0" lang="en-IE" sz="3200" spc="-1" strike="noStrike">
                <a:solidFill>
                  <a:srgbClr val="000000"/>
                </a:solidFill>
                <a:latin typeface="Arial"/>
              </a:rPr>
              <a:t>identified competencies</a:t>
            </a:r>
            <a:r>
              <a:rPr b="0" lang="en-GB" sz="3200" spc="-1" strike="noStrike">
                <a:solidFill>
                  <a:srgbClr val="000000"/>
                </a:solidFill>
                <a:latin typeface="Arial"/>
              </a:rPr>
              <a:t> relevant across countries, educational systems and class level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What</a:t>
            </a:r>
            <a:r>
              <a:rPr b="0" lang="en-GB" sz="3200" spc="-1" strike="noStrike">
                <a:solidFill>
                  <a:srgbClr val="000000"/>
                </a:solidFill>
                <a:latin typeface="Arial"/>
              </a:rPr>
              <a:t> are the implications for teacher developmen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5009E97-B49D-4CB6-A429-2690AFDF86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stinction between Training and Teaching / Teacher Learning</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ining. . . situate knowledge and authority within the teacher rather than the learner. . . (shares this with other practices such as conditioning, instructing, indoctrin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ining is an incomplete and insufficient construct on which to base our models of teacher preparation (Hoffman &amp; Pearson, 200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ining will  not help teachers develop the personal and professional commitment to lifelong learning required by those teachers who want to confront the complexities and contradictions of teach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77E3FBC-8F28-409E-A58F-EA38CC5277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Do we know how to teach teachers of reading?”</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Hoffman &amp; Pearson, 2000) . . . But research is promis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long as the outcomes can be specified and the context controlled, training serves our needs. .. . But the reality of teaching is one of constantly changing conditions with fairly abstract and even ambiguous learning outco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need </a:t>
            </a:r>
            <a:r>
              <a:rPr b="0" lang="en-GB" sz="2800" spc="-1" strike="noStrike" u="sng">
                <a:solidFill>
                  <a:srgbClr val="000000"/>
                </a:solidFill>
                <a:uFillTx/>
                <a:latin typeface="Arial"/>
              </a:rPr>
              <a:t>reflective</a:t>
            </a:r>
            <a:r>
              <a:rPr b="0" lang="en-GB" sz="2800" spc="-1" strike="noStrike">
                <a:solidFill>
                  <a:srgbClr val="000000"/>
                </a:solidFill>
                <a:latin typeface="Arial"/>
              </a:rPr>
              <a:t>, </a:t>
            </a:r>
            <a:r>
              <a:rPr b="0" lang="en-GB" sz="2800" spc="-1" strike="noStrike" u="sng">
                <a:solidFill>
                  <a:srgbClr val="000000"/>
                </a:solidFill>
                <a:uFillTx/>
                <a:latin typeface="Arial"/>
              </a:rPr>
              <a:t>discursive</a:t>
            </a:r>
            <a:r>
              <a:rPr b="0" lang="en-GB" sz="2800" spc="-1" strike="noStrike">
                <a:solidFill>
                  <a:srgbClr val="000000"/>
                </a:solidFill>
                <a:latin typeface="Arial"/>
              </a:rPr>
              <a:t>, and </a:t>
            </a:r>
            <a:r>
              <a:rPr b="0" lang="en-GB" sz="2800" spc="-1" strike="noStrike" u="sng">
                <a:solidFill>
                  <a:srgbClr val="000000"/>
                </a:solidFill>
                <a:uFillTx/>
                <a:latin typeface="Arial"/>
              </a:rPr>
              <a:t>dialogical</a:t>
            </a:r>
            <a:r>
              <a:rPr b="0" lang="en-GB" sz="2800" spc="-1" strike="noStrike">
                <a:solidFill>
                  <a:srgbClr val="000000"/>
                </a:solidFill>
                <a:latin typeface="Arial"/>
              </a:rPr>
              <a:t> strate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6F04370-6FCE-4B1B-9AD8-717CEBB889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rcoran-Smyth &amp; Lytle (1999)</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ee approaches to understanding teacher learning</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Knowledge </a:t>
            </a:r>
            <a:r>
              <a:rPr b="0" i="1" lang="en-GB" sz="2400" spc="-1" strike="noStrike" u="sng">
                <a:solidFill>
                  <a:srgbClr val="000000"/>
                </a:solidFill>
                <a:uFillTx/>
                <a:latin typeface="Arial"/>
              </a:rPr>
              <a:t>for</a:t>
            </a:r>
            <a:r>
              <a:rPr b="0" lang="en-GB" sz="2400" spc="-1" strike="noStrike" u="sng">
                <a:solidFill>
                  <a:srgbClr val="000000"/>
                </a:solidFill>
                <a:uFillTx/>
                <a:latin typeface="Arial"/>
              </a:rPr>
              <a:t> practice</a:t>
            </a:r>
            <a:r>
              <a:rPr b="0" lang="en-GB" sz="2400" spc="-1" strike="noStrike">
                <a:solidFill>
                  <a:srgbClr val="000000"/>
                </a:solidFill>
                <a:latin typeface="Arial"/>
              </a:rPr>
              <a:t> –  teachers are provided the knowledge they will need to be effective teachers, by more knowledgeable others, usually university professors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Knowledge </a:t>
            </a:r>
            <a:r>
              <a:rPr b="0" i="1" lang="en-GB" sz="2400" spc="-1" strike="noStrike" u="sng">
                <a:solidFill>
                  <a:srgbClr val="000000"/>
                </a:solidFill>
                <a:uFillTx/>
                <a:latin typeface="Arial"/>
              </a:rPr>
              <a:t>in</a:t>
            </a:r>
            <a:r>
              <a:rPr b="0" lang="en-GB" sz="2400" spc="-1" strike="noStrike" u="sng">
                <a:solidFill>
                  <a:srgbClr val="000000"/>
                </a:solidFill>
                <a:uFillTx/>
                <a:latin typeface="Arial"/>
              </a:rPr>
              <a:t> practice</a:t>
            </a:r>
            <a:r>
              <a:rPr b="0" lang="en-GB" sz="2400" spc="-1" strike="noStrike">
                <a:solidFill>
                  <a:srgbClr val="000000"/>
                </a:solidFill>
                <a:latin typeface="Arial"/>
              </a:rPr>
              <a:t> – teachers discover the knowledge they need in the field as they reflect on and critique their own practice, either individually or in some collaborative arrangement</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Knowledge </a:t>
            </a:r>
            <a:r>
              <a:rPr b="0" i="1" lang="en-GB" sz="2400" spc="-1" strike="noStrike" u="sng">
                <a:solidFill>
                  <a:srgbClr val="000000"/>
                </a:solidFill>
                <a:uFillTx/>
                <a:latin typeface="Arial"/>
              </a:rPr>
              <a:t>of</a:t>
            </a:r>
            <a:r>
              <a:rPr b="0" lang="en-GB" sz="2400" spc="-1" strike="noStrike" u="sng">
                <a:solidFill>
                  <a:srgbClr val="000000"/>
                </a:solidFill>
                <a:uFillTx/>
                <a:latin typeface="Arial"/>
              </a:rPr>
              <a:t> practice</a:t>
            </a:r>
            <a:r>
              <a:rPr b="0" lang="en-GB" sz="2400" spc="-1" strike="noStrike">
                <a:solidFill>
                  <a:srgbClr val="000000"/>
                </a:solidFill>
                <a:latin typeface="Arial"/>
              </a:rPr>
              <a:t> – </a:t>
            </a:r>
            <a:r>
              <a:rPr b="0" lang="en-US" sz="2400" spc="-1" strike="noStrike">
                <a:solidFill>
                  <a:srgbClr val="000000"/>
                </a:solidFill>
                <a:latin typeface="Arial"/>
              </a:rPr>
              <a:t>teachers, invariably in community settings, construct their own knowledge of practice through deliberate inquiry, which may well involve ideas and experiences that emerge from their own practice as well as those codified as formal knowledge within the profess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00ADE93-E805-463E-AC94-05B32FC7AC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eparing Teachers: </a:t>
            </a:r>
            <a:br>
              <a:rPr sz="4000"/>
            </a:br>
            <a:r>
              <a:rPr b="0" lang="en-GB" sz="4000" spc="-1" strike="noStrike">
                <a:solidFill>
                  <a:srgbClr val="000000"/>
                </a:solidFill>
                <a:latin typeface="Arial"/>
              </a:rPr>
              <a:t>Teaching vs. Training Perspectives</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truth is that serious attempts to teach teachers, to engage them in educative practice and inquiry rather than provide them with a set of bureaucratically endorsed recipes, is a relatively new phenomenon. (Hoffman &amp; Pear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must make a fundamental shift from faith in simple answers . . . simple procedures, simple packages of materials teachers can be directed to follow. Instead, we must “embrace the complexities.” (Duffy, 1991, p. 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50146DE-295C-4AF3-A952-5B9E4788AD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ypical Steps in Teaching for Learning (Teacher as Researcher) Project Model</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 .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ir own problems and question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their own approaches to studying them</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their work with colleagu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colleagues in similar endeavors by critiquing their work</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e in public dissemination about the projec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BD9A3B7-C056-406B-92D4-D228AE83E7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International Reading Association – Standards for Reading Professionals (2003)</a:t>
            </a:r>
            <a:endParaRPr b="0" lang="en-US" sz="28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000000"/>
                </a:solidFill>
                <a:latin typeface="Arial"/>
              </a:rPr>
              <a:t>Standards for. . .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000000"/>
                </a:solidFill>
                <a:latin typeface="Arial"/>
              </a:rPr>
              <a:t>Paraprofessional candidat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000000"/>
                </a:solidFill>
                <a:latin typeface="Arial"/>
              </a:rPr>
              <a:t>Classroom teacher candidat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000000"/>
                </a:solidFill>
                <a:latin typeface="Arial"/>
              </a:rPr>
              <a:t>Reading specialists/literacy coach candidat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000000"/>
                </a:solidFill>
                <a:latin typeface="Arial"/>
              </a:rPr>
              <a:t>Teacher educator candidat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000000"/>
                </a:solidFill>
                <a:latin typeface="Arial"/>
              </a:rPr>
              <a:t>Administrator candidat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4BC386F-3273-48FB-BDC2-9B44B248D5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International Reading Association – Standards for Reading Professionals (2003)</a:t>
            </a:r>
            <a:endParaRPr b="0" lang="en-US" sz="28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Foundational Knowledg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structional Practices Material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Assessment, Diagnosis, and Evalu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reating a Literate Environment, an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Professional Developm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827D9D7-025E-4C59-B2BF-535EC2F021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Visualising the IRA Professional Development Standards </a:t>
            </a:r>
            <a:endParaRPr b="0" lang="en-US" sz="4000" spc="-1" strike="noStrike">
              <a:solidFill>
                <a:srgbClr val="000000"/>
              </a:solidFill>
              <a:latin typeface="Arial"/>
            </a:endParaRPr>
          </a:p>
        </p:txBody>
      </p:sp>
      <p:pic>
        <p:nvPicPr>
          <p:cNvPr id="137" name="" descr="diagram of five standards"/>
          <p:cNvPicPr/>
          <p:nvPr/>
        </p:nvPicPr>
        <p:blipFill>
          <a:blip r:embed="rId1"/>
          <a:stretch/>
        </p:blipFill>
        <p:spPr>
          <a:xfrm>
            <a:off x="1835280" y="1628640"/>
            <a:ext cx="5616360" cy="4821480"/>
          </a:xfrm>
          <a:prstGeom prst="rect">
            <a:avLst/>
          </a:prstGeom>
          <a:ln w="0">
            <a:noFill/>
          </a:ln>
        </p:spPr>
      </p:pic>
      <p:sp>
        <p:nvSpPr>
          <p:cNvPr id="3" name="PlaceHolder 2"/>
          <p:cNvSpPr>
            <a:spLocks noGrp="1"/>
          </p:cNvSpPr>
          <p:nvPr>
            <p:ph type="sldNum" idx="3"/>
          </p:nvPr>
        </p:nvSpPr>
        <p:spPr/>
        <p:txBody>
          <a:bodyPr/>
          <a:p>
            <a:fld id="{D43D56EC-BBED-4DEA-8A68-654B6BB8A1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IRA Standards – Example – Assessment, Diagnosis &amp; Evaluation Strand</a:t>
            </a:r>
            <a:endParaRPr b="0" lang="en-US" sz="28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lassroom teacher candidates. . .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elect and administer appropriate formal and informal assessments, including technology-based assessm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ompare, contrast and analyze information and assessment results, to place students along a developmental continuum.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nalyse, compare, contrast and use assessment results to plan, evaluate and revise effective instruction for all students, within an assessment-evaluation-instruction cycle.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5BD566D-F877-428A-B1FB-7FA4294E87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195640" y="0"/>
            <a:ext cx="4897440" cy="6858000"/>
          </a:xfrm>
          <a:prstGeom prst="rect">
            <a:avLst/>
          </a:prstGeom>
          <a:ln w="0">
            <a:noFill/>
          </a:ln>
        </p:spPr>
      </p:pic>
      <p:sp>
        <p:nvSpPr>
          <p:cNvPr id="2" name="PlaceHolder 1"/>
          <p:cNvSpPr>
            <a:spLocks noGrp="1"/>
          </p:cNvSpPr>
          <p:nvPr>
            <p:ph type="sldNum" idx="3"/>
          </p:nvPr>
        </p:nvSpPr>
        <p:spPr/>
        <p:txBody>
          <a:bodyPr/>
          <a:p>
            <a:fld id="{1B44808A-6BC7-445D-81DA-B9E0ECF6E0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s the notion of competencies out of date?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548280" indent="-548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ECD’s Definition and Selection of Competencies (DeSeCo) Project (2003)</a:t>
            </a:r>
            <a:endParaRPr b="0" lang="en-US" sz="2800" spc="-1" strike="noStrike">
              <a:solidFill>
                <a:srgbClr val="000000"/>
              </a:solidFill>
              <a:latin typeface="Arial"/>
            </a:endParaRPr>
          </a:p>
          <a:p>
            <a:pPr marL="548280" indent="-548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Life-long learning perspective </a:t>
            </a:r>
            <a:endParaRPr b="0" lang="en-US" sz="2800" spc="-1" strike="noStrike">
              <a:solidFill>
                <a:srgbClr val="000000"/>
              </a:solidFill>
              <a:latin typeface="Arial"/>
            </a:endParaRPr>
          </a:p>
          <a:p>
            <a:pPr marL="548280" indent="-548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hree broad clusters of competencies </a:t>
            </a:r>
            <a:endParaRPr b="0" lang="en-US" sz="2800" spc="-1" strike="noStrike">
              <a:solidFill>
                <a:srgbClr val="000000"/>
              </a:solidFill>
              <a:latin typeface="Arial"/>
            </a:endParaRPr>
          </a:p>
          <a:p>
            <a:pPr marL="548280" indent="-5482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Use tools interactively (e.g., use language, symbols and texts interactively, use knowledge and information interactively)</a:t>
            </a:r>
            <a:endParaRPr b="0" lang="en-US" sz="2800" spc="-1" strike="noStrike">
              <a:solidFill>
                <a:srgbClr val="000000"/>
              </a:solidFill>
              <a:latin typeface="Arial"/>
            </a:endParaRPr>
          </a:p>
          <a:p>
            <a:pPr marL="548280" indent="-5482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Interact in heterogeneous groups (relate well to others, work in teams, manage and resolve conflicts)</a:t>
            </a:r>
            <a:endParaRPr b="0" lang="en-US" sz="2800" spc="-1" strike="noStrike">
              <a:solidFill>
                <a:srgbClr val="000000"/>
              </a:solidFill>
              <a:latin typeface="Arial"/>
            </a:endParaRPr>
          </a:p>
          <a:p>
            <a:pPr marL="548280" indent="-5482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ct autonomously (defend and assert rights, limits and needs)</a:t>
            </a:r>
            <a:endParaRPr b="0" lang="en-US" sz="2800" spc="-1" strike="noStrike">
              <a:solidFill>
                <a:srgbClr val="000000"/>
              </a:solidFill>
              <a:latin typeface="Arial"/>
            </a:endParaRPr>
          </a:p>
          <a:p>
            <a:pPr marL="548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F4F905C-AB5E-4361-8FC7-FDA81CFDB9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IRLS – Progress in International Reading Literacy Study (2006)</a:t>
            </a:r>
            <a:endParaRPr b="0" lang="en-US" sz="40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0 countries/regions participated in 200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volves students in Grade 4 and their teach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pters on . .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ent Performance in Reading (Russia ranked first)</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School Curriculum and Organisation for Teaching Reading</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eachers and Reading Instruction</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ol Context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5C685F8-9184-45C8-83A0-22DA8B8086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IRLS 2006 – Which Teacher Factors Are Examined? </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Education and Training Do Teachers Have for Teaching Rea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Background Characteristics and Responsibilities of Reading Teach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nstructional Resources Do Teachers 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ften Do Students Read Aloud and Independently in Cla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ctivities Do Students Do in Response to Class Rea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ibrary Resources Are Available and How Are They Used? .  .  .  .  .  .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Teachers Assess Reading Progres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28233CF-E208-4E48-941E-90F8637797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IRLS 2006 – Teacher Demographic Information </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ust 2% of teachers in Russia and 5% in Germany and Macedonia are in the 20-29 age range, compared with 20% in French Belgium and 29% in Fran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 fourth grade students in Poland are taught reading by female teachers compared with 55% in Luxembour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urth grade students in Austria are taught reading by  teachers with an average of 22 years teaching experience, compared with 12 years in England, and 15 in Franc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981462E-6F0F-4134-9458-27AC56DED9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Varying Emphases in Teachers’ Formal Training</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48% of students in Denmark are taught by teachers who were provided with pre-service training in language and/or children’s literature </a:t>
            </a:r>
            <a:r>
              <a:rPr b="0" lang="en-IE" sz="3200" spc="-1" strike="noStrike" u="sng">
                <a:solidFill>
                  <a:srgbClr val="000000"/>
                </a:solidFill>
                <a:uFillTx/>
                <a:latin typeface="Arial"/>
              </a:rPr>
              <a:t>without reading pedagogy</a:t>
            </a:r>
            <a:r>
              <a:rPr b="0" lang="en-IE"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25% of students in Poland were taught by teachers who had studied reading pedagogy but not language and literatur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B9A5AEC-7240-4B58-A291-92E6BDE0E6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IRLS 2006  - Teachers’ Use of Instructional Materials</a:t>
            </a:r>
            <a:r>
              <a:rPr b="1" lang="en-IE" sz="3200" spc="-1" strike="noStrike">
                <a:solidFill>
                  <a:srgbClr val="000000"/>
                </a:solidFill>
                <a:latin typeface="Arial"/>
              </a:rPr>
              <a:t> </a:t>
            </a:r>
            <a:endParaRPr b="0" lang="en-US" sz="32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achers  of 64% of students in England report that they use a variety of children’s books as a basis for reading instruction compared with 1% in Hungary and 4% in Polan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achers of one-third of students in the Netherlands report that they use computer programmes as a basis for teaching reading compared with 4% in Spain and Swed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eachers of 42% of students in France report that they use text books from other curricular areas as a basis for teaching reading, compared with 4% in the Russian Federeation.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C212FB2-8BC0-470F-BFDE-6734EE9A3D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Frequency of Use of Instructional Strategies</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5% of students in French Belgium are taught by teachers who teach decoding on a daily basis, compared with 40% in Bulgaria and 62% in Po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93% of students in Romania report reading aloud in class on a daily basis, compared with 2% in Swed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5% students in Sweden are taught by teachers who ask students to describe text style or structure compared with 39% in Spain and 64% in England.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E1657D3-AAA8-4EBD-A48E-64A0CCBC5F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Competence is in the eye of the beholder. . . . National Literacy Strategy in England</a:t>
            </a:r>
            <a:endParaRPr b="0" lang="en-US" sz="2800" spc="-1" strike="noStrike">
              <a:solidFill>
                <a:srgbClr val="000000"/>
              </a:solidFill>
              <a:latin typeface="Arial"/>
            </a:endParaRPr>
          </a:p>
        </p:txBody>
      </p:sp>
      <p:pic>
        <p:nvPicPr>
          <p:cNvPr id="154" name="" descr=""/>
          <p:cNvPicPr/>
          <p:nvPr/>
        </p:nvPicPr>
        <p:blipFill>
          <a:blip r:embed="rId1"/>
          <a:stretch/>
        </p:blipFill>
        <p:spPr>
          <a:xfrm>
            <a:off x="539640" y="1557360"/>
            <a:ext cx="8136000" cy="4464000"/>
          </a:xfrm>
          <a:prstGeom prst="rect">
            <a:avLst/>
          </a:prstGeom>
          <a:ln w="0">
            <a:noFill/>
          </a:ln>
        </p:spPr>
      </p:pic>
      <p:sp>
        <p:nvSpPr>
          <p:cNvPr id="155" name=""/>
          <p:cNvSpPr/>
          <p:nvPr/>
        </p:nvSpPr>
        <p:spPr>
          <a:xfrm>
            <a:off x="0" y="4800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0" y="3352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42EABDA-4CD6-4331-BABE-D59D2D8DED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NLS Review - Consultants</a:t>
            </a:r>
            <a:endParaRPr b="0" lang="en-US" sz="4400" spc="-1" strike="noStrike">
              <a:solidFill>
                <a:srgbClr val="000000"/>
              </a:solidFill>
              <a:latin typeface="Arial"/>
            </a:endParaRPr>
          </a:p>
        </p:txBody>
      </p:sp>
      <p:pic>
        <p:nvPicPr>
          <p:cNvPr id="158" name="" descr=""/>
          <p:cNvPicPr/>
          <p:nvPr/>
        </p:nvPicPr>
        <p:blipFill>
          <a:blip r:embed="rId1"/>
          <a:stretch/>
        </p:blipFill>
        <p:spPr>
          <a:xfrm>
            <a:off x="971640" y="1628640"/>
            <a:ext cx="7143840" cy="4692960"/>
          </a:xfrm>
          <a:prstGeom prst="rect">
            <a:avLst/>
          </a:prstGeom>
          <a:ln w="0">
            <a:noFill/>
          </a:ln>
        </p:spPr>
      </p:pic>
      <p:sp>
        <p:nvSpPr>
          <p:cNvPr id="159" name=""/>
          <p:cNvSpPr/>
          <p:nvPr/>
        </p:nvSpPr>
        <p:spPr>
          <a:xfrm>
            <a:off x="0" y="35812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FA2EBEC-5601-4686-8F08-45E9D74786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National Literacy Strategy – Consultants’ Views (contd)</a:t>
            </a:r>
            <a:endParaRPr b="0" lang="en-US" sz="4000" spc="-1" strike="noStrike">
              <a:solidFill>
                <a:srgbClr val="000000"/>
              </a:solidFill>
              <a:latin typeface="Arial"/>
            </a:endParaRPr>
          </a:p>
        </p:txBody>
      </p:sp>
      <p:pic>
        <p:nvPicPr>
          <p:cNvPr id="161" name="" descr=""/>
          <p:cNvPicPr/>
          <p:nvPr/>
        </p:nvPicPr>
        <p:blipFill>
          <a:blip r:embed="rId1"/>
          <a:stretch/>
        </p:blipFill>
        <p:spPr>
          <a:xfrm>
            <a:off x="826920" y="1844640"/>
            <a:ext cx="7188480" cy="709560"/>
          </a:xfrm>
          <a:prstGeom prst="rect">
            <a:avLst/>
          </a:prstGeom>
          <a:ln w="0">
            <a:noFill/>
          </a:ln>
        </p:spPr>
      </p:pic>
      <p:pic>
        <p:nvPicPr>
          <p:cNvPr id="162" name="" descr=""/>
          <p:cNvPicPr/>
          <p:nvPr/>
        </p:nvPicPr>
        <p:blipFill>
          <a:blip r:embed="rId2"/>
          <a:stretch/>
        </p:blipFill>
        <p:spPr>
          <a:xfrm>
            <a:off x="900000" y="2565360"/>
            <a:ext cx="7188480" cy="3724200"/>
          </a:xfrm>
          <a:prstGeom prst="rect">
            <a:avLst/>
          </a:prstGeom>
          <a:ln w="0">
            <a:noFill/>
          </a:ln>
        </p:spPr>
      </p:pic>
      <p:sp>
        <p:nvSpPr>
          <p:cNvPr id="163" name=""/>
          <p:cNvSpPr/>
          <p:nvPr/>
        </p:nvSpPr>
        <p:spPr>
          <a:xfrm>
            <a:off x="0" y="47242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4D1D163-2860-4213-9991-A5F1777927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uture Research</a:t>
            </a:r>
            <a:endParaRPr b="0" lang="en-US" sz="4400" spc="-1" strike="noStrike">
              <a:solidFill>
                <a:srgbClr val="000000"/>
              </a:solidFill>
              <a:latin typeface="Arial"/>
            </a:endParaRPr>
          </a:p>
        </p:txBody>
      </p:sp>
      <p:sp>
        <p:nvSpPr>
          <p:cNvPr id="165"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nalysis of  </a:t>
            </a:r>
            <a:r>
              <a:rPr b="0" lang="en-GB" sz="2800" spc="-1" strike="noStrike">
                <a:solidFill>
                  <a:srgbClr val="000000"/>
                </a:solidFill>
                <a:latin typeface="Arial"/>
              </a:rPr>
              <a:t>teacher</a:t>
            </a:r>
            <a:r>
              <a:rPr b="0" lang="en-IE" sz="2800" spc="-1" strike="noStrike">
                <a:solidFill>
                  <a:srgbClr val="000000"/>
                </a:solidFill>
                <a:latin typeface="Arial"/>
              </a:rPr>
              <a:t>s’</a:t>
            </a:r>
            <a:r>
              <a:rPr b="0" lang="en-GB" sz="2800" spc="-1" strike="noStrike">
                <a:solidFill>
                  <a:srgbClr val="000000"/>
                </a:solidFill>
                <a:latin typeface="Arial"/>
              </a:rPr>
              <a:t> confidence in their ability to teach particular strategies</a:t>
            </a:r>
            <a:r>
              <a:rPr b="0" lang="en-IE" sz="2800" spc="-1" strike="noStrike">
                <a:solidFill>
                  <a:srgbClr val="000000"/>
                </a:solidFill>
                <a:latin typeface="Arial"/>
              </a:rPr>
              <a:t> (probably preferable to asking teachers whether or not they engage in particular practice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nalysis of teacher responses to instructional scenario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hould the PIRLS approach to describing reading instruction be explored further, or is there a need for smaller-scale studies to analyse differences in teaching practices across countrie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How do teachers in different countries respond to professional development?  </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9149CE0-D040-4EC3-9C32-8ECDEF4EBB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DeSeCo – Links between Individual and Institutional Competencies </a:t>
            </a:r>
            <a:endParaRPr b="0" lang="en-US" sz="4000" spc="-1" strike="noStrike">
              <a:solidFill>
                <a:srgbClr val="000000"/>
              </a:solidFill>
              <a:latin typeface="Arial"/>
            </a:endParaRPr>
          </a:p>
        </p:txBody>
      </p:sp>
      <p:pic>
        <p:nvPicPr>
          <p:cNvPr id="52" name="" descr=""/>
          <p:cNvPicPr/>
          <p:nvPr/>
        </p:nvPicPr>
        <p:blipFill>
          <a:blip r:embed="rId1"/>
          <a:stretch/>
        </p:blipFill>
        <p:spPr>
          <a:xfrm>
            <a:off x="914400" y="1676520"/>
            <a:ext cx="7143840" cy="4848120"/>
          </a:xfrm>
          <a:prstGeom prst="rect">
            <a:avLst/>
          </a:prstGeom>
          <a:ln w="0">
            <a:noFill/>
          </a:ln>
        </p:spPr>
      </p:pic>
      <p:sp>
        <p:nvSpPr>
          <p:cNvPr id="3" name="PlaceHolder 2"/>
          <p:cNvSpPr>
            <a:spLocks noGrp="1"/>
          </p:cNvSpPr>
          <p:nvPr>
            <p:ph type="sldNum" idx="3"/>
          </p:nvPr>
        </p:nvSpPr>
        <p:spPr/>
        <p:txBody>
          <a:bodyPr/>
          <a:p>
            <a:fld id="{6D9D36CF-8112-4536-BE54-8E1F38D469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al teaching competencies vs. Reading teacher competencies </a:t>
            </a:r>
            <a:endParaRPr b="0" lang="en-US" sz="4000" spc="-1" strike="noStrike">
              <a:solidFill>
                <a:srgbClr val="000000"/>
              </a:solidFill>
              <a:latin typeface="Arial"/>
            </a:endParaRPr>
          </a:p>
        </p:txBody>
      </p:sp>
      <p:sp>
        <p:nvSpPr>
          <p:cNvPr id="54" name=""/>
          <p:cNvSpPr/>
          <p:nvPr/>
        </p:nvSpPr>
        <p:spPr>
          <a:xfrm>
            <a:off x="1042920" y="2421000"/>
            <a:ext cx="6265800" cy="309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763640" y="3573360"/>
            <a:ext cx="4537080" cy="172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843280" y="2781360"/>
            <a:ext cx="309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teaching competencies</a:t>
            </a:r>
            <a:endParaRPr b="0" lang="en-US" sz="2400" spc="-1" strike="noStrike">
              <a:solidFill>
                <a:srgbClr val="000000"/>
              </a:solidFill>
              <a:latin typeface="Arial"/>
            </a:endParaRPr>
          </a:p>
        </p:txBody>
      </p:sp>
      <p:sp>
        <p:nvSpPr>
          <p:cNvPr id="57" name=""/>
          <p:cNvSpPr/>
          <p:nvPr/>
        </p:nvSpPr>
        <p:spPr>
          <a:xfrm>
            <a:off x="2700360" y="4221000"/>
            <a:ext cx="273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etencies for teaching reading</a:t>
            </a:r>
            <a:endParaRPr b="0" lang="en-US" sz="1800" spc="-1" strike="noStrike">
              <a:solidFill>
                <a:srgbClr val="000000"/>
              </a:solidFill>
              <a:latin typeface="Arial"/>
            </a:endParaRPr>
          </a:p>
        </p:txBody>
      </p:sp>
      <p:sp>
        <p:nvSpPr>
          <p:cNvPr id="58" name=""/>
          <p:cNvSpPr/>
          <p:nvPr/>
        </p:nvSpPr>
        <p:spPr>
          <a:xfrm>
            <a:off x="5219640" y="3645000"/>
            <a:ext cx="1657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eaching and Learning Environmen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1EE0B14-0A27-406E-9A13-A262D18E85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ories of teaching and learning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haviourism</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gnitivism</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structivism</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cio</a:t>
            </a:r>
            <a:r>
              <a:rPr b="0" lang="en-IE" sz="3200" spc="-1" strike="noStrike">
                <a:solidFill>
                  <a:srgbClr val="000000"/>
                </a:solidFill>
                <a:latin typeface="Arial"/>
              </a:rPr>
              <a:t>-</a:t>
            </a:r>
            <a:r>
              <a:rPr b="0" lang="en-GB" sz="3200" spc="-1" strike="noStrike">
                <a:solidFill>
                  <a:srgbClr val="000000"/>
                </a:solidFill>
                <a:latin typeface="Arial"/>
              </a:rPr>
              <a:t>culturalism</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itical theor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7F0B70E-55ED-4E63-92EF-AF250FD099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ny factors are associated with how well children read . . .</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or societal learning variables (e.g., parent SES, parent education, number of books in the home, home educational resources) (PISA &amp; PIRL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programmes, curricula and guidelines (Reading Recovery, National Literacy Strategy in the UK, No Child Left Behind in the U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motivation to read / engagement and interest in reading (PISA)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acher knowledge and skills / teacher effectiveness / teacher competenc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FD76A16-E942-438E-8F55-73FAAAF650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6T17:33:48Z</dcterms:created>
  <dc:creator>Gerry Shiel</dc:creator>
  <dc:description/>
  <dc:language>en-US</dc:language>
  <cp:lastModifiedBy>Gerry Shiel</cp:lastModifiedBy>
  <dcterms:modified xsi:type="dcterms:W3CDTF">2009-01-19T17:20:49Z</dcterms:modified>
  <cp:revision>17</cp:revision>
  <dc:subject/>
  <dc:title>Which competences for teaching literacy? </dc:title>
</cp:coreProperties>
</file>